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865-4ADE-4759-8B6A-1D167B54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55C-EAB0-4D47-877E-1F72833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2FA-DB57-4864-AAC9-C31A6D6B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0BA-21AF-4127-A467-7362BE3B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747-C18A-4370-9E98-037D68F0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3CD-92A9-48EC-A817-141E68BD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36B-A4C1-4866-8E7A-B91FA209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A18-C429-441A-9E08-4978989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F9F-6307-42F5-9C28-583E2C05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701-C68E-4BBA-BEFC-6440FA2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FE2-6FFF-4539-9F58-4DA0CD4A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095-5E5F-40FA-931A-A04D99F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240A-5257-4C82-8441-26B50D8601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914400"/>
            <a:ext cx="5388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s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se-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723888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373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72392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327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23888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441972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32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7239240" cy="60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7239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49528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7239240" cy="99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365760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723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23888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2388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23888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2388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4876920"/>
            <a:ext cx="1828800" cy="380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238880" cy="52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162920" cy="143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410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0" y="3581280"/>
            <a:ext cx="13716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239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419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30481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449568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365760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7162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335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0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7162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625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7162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44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5320" y="5145120"/>
            <a:ext cx="79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 who are both smokers and have cancer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-represented in a hospital study population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d to the community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238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09:49Z</dcterms:modified>
  <cp:revision>212</cp:revision>
  <dc:subject/>
  <dc:title>Slide 1</dc:title>
</cp:coreProperties>
</file>